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A225-D487-498E-8727-82A6B0D228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5ABE-5B9F-4F9A-8CA2-AD222F7FB2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D303-6CB1-4166-AF70-CB28838566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22BD-2F67-4C80-BC8E-29EDADCDE5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92F4-EF4A-4FF5-BE07-4D04A71529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332C-415D-4A67-A8E8-4E046A09E2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喜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你喜欢什么运动</a:t>
            </a:r>
            <a:r>
              <a:rPr b="1" lang="en-US" sz="65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좋아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ǐhu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喜欢打篮球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548400"/>
            <a:ext cx="626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구기 종목 등을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하다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篮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明天有篮球比赛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농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án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乒乓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打乒乓球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탁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īngpāng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游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喜欢游泳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수영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óuyǒ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考试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明天有考试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ǎo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跳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妹妹喜欢跳舞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춤추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àowǔ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弟弟喜欢唱歌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래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à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中国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会唱什么歌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할 줄 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hu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会唱中国歌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 노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ōngguóg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运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喜欢运动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운동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ùndò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教我踢球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르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问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没问题！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문제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ènt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会说汉语吗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말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uō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听一听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듣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ī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我帮你吧。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돕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ā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191560"/>
            <a:ext cx="627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昨天的比赛几比几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185520"/>
            <a:ext cx="626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~(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두 개의 수를 서로 비교하다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们赢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05440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踢足球。 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차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足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踢足球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축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ú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们要做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려고 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参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8040" y="5100480"/>
            <a:ext cx="66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要参加足球比赛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참가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ānji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比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有比赛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경기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합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ǐs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厉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很厉害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대단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ìha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加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加油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응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힘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yó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36:05Z</dcterms:modified>
  <cp:revision>232</cp:revision>
  <dc:subject/>
  <dc:title>슬라이드 1</dc:title>
</cp:coreProperties>
</file>